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60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6056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763800" y="-360"/>
            <a:ext cx="2859120" cy="5317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61680" y="758880"/>
            <a:ext cx="5375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339120"/>
            <a:ext cx="286056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763800" y="9339120"/>
            <a:ext cx="2859120" cy="532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896B75EA-BEF3-4EE8-AEF3-49A99F53291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hciałbym zaprezentować Państw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ważniejsze tezy mojej pracy doktorski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emat pracy brzm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y neuronowe i statystycz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ca została wykonana w Katedrze Metod Komputerowych UM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kierunkiem profesora Włodzisława Duc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a się sieć Kohonena jest siecią dwuwarstwową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ej warstwa wyjściow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siatką neuronów oddziałujących lateraln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rażeniu ... mi jest wektorem wag neuronu "i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hci jest tzw. funkcją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której relacje bliskości danych są zachowane na map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najważniejszych zalet tego modelu należy to, ż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konuje jednocześnie redukcji wymiarowośc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klasteryzacji danych wielowymiarow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je możliwość zastosowania do dużych baz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ub danych w czasie ich napły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graniczenia modelu SOM,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niekształcenie związane z niedopasowaniem kształtu ma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ogólnego kształtu danych, efekt „brzegowy”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yskretyzacja przestrzeni wyjściowej (siatka neuron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Efekt lokalnego powiększ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teryzacja i klasyfikacja nie optymal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ieczność wyboru wielu parametrów uczenia sie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jdźmy teraz do skalowania wielowymiarowe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ideą tej metody jest zminimalizowanie funkcji błę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zw. stresu, gdzie deltaij jest miarą odmienności obiektów i oraz  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ij jest odległością w przestrzeni niskowymiar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literaturze przedstawiono różne metody optym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e w tym cel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lgorytm MDS w niniejszej pracy ulepszono w sposób następują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stalono pewną strategię wyboru konfiguracji początkowej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stresu został ulepszon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optymalizacji skoku wzdłuż gradient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tworzono możliwość dorzutowania n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ymalny skok dla metody największego spadk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iera się na aproksymacji funkcji S formą kwadratow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rzymujemy następujące wyrażenie, w którym można dokona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elu analitycznych uproszcze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o metodę największego spadku z optymalnym skokiem (OS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metodą sprzężonych gradientów (CO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az z tzw. rzutowaniem Sammon’a (SA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ierwszym wykresie widzimy szybs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bardziej regularne zbieganie się minimalizacji metodą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rugi wykres przedstawia końcowe wartości stresu dla stu różnych pró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 niższe wartości średnią oraz minimalną dla OS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sumując: zalety ulepszonej metod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nie krzywizny funkcji S() w punkcie Y(k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y jednocześnie mniejszej kosztown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ż prawdziwa metoda drugiego rzędu (n.p. metoda Newton’a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w sumie szybsza niż metoda gradientów sprzężony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ces minimalizacji przebiega w sposób bardziej kontrolowany ni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ą rzutowania Sammon’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łówną wadą jest jej liniowa zbieżnoś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łączona przez mnie generalizacja polega na minimalizacji nowego stresu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m występują odległości miedzy nowym punk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lub nowymi punkta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 punktami wcześniej rzutowanymi tak zwanej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tać stresu jest przedstawiona poniższym wzor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odstawie przeprowadzonych badań można wnioskować, ż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ultiStart z minimalizacją gradientową jest zadowalającym rozwiązani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małych zbiorów (do 100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siada względną szybkość rzutowani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kontroli obszarów danych, które należy lepiej odwzorowy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liwość wizualizacji dużych zbiorów danych w celu ich eksplor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bazy tekstów) lub danych napływających w cz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.p. monitoring procesów przemysłowyc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ady zaproponowanego modelu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łożoność obliczeniowa rzędu 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- liczba punktów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czne lokalne minima (czułość na warunki początkow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implementowany interakcyjny program iMDS został zastosow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wizualizacji danych psychomet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yły to dane trzynasto-wymiarowe opisujące przypadki chorób psychicz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dzimy, że MDS pozwala na lepsze odseparowanie różnych k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Na przykład klasy ‘norma’ - granatow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sychopatia’ - niebieska, turkus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rganika’ - purpuro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lejnym zastosowaniem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zoomowanie w sąsiedztw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branego pacjenta bazy psychometryczn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o i rzutow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 najbliższych sąsiadów w przestrzeni c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k równego 500, 200, 50, 20, 10 i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ńcowe wartości stresu są wskaźnikiem jakości odwzorow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7520" y="4708080"/>
            <a:ext cx="51181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adnicze cele mojej pracy zawierają się w następujących punkta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dstawienie przeglądu istniejących metod wizualizacyj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równanie dwóch wybranych metod: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samoorganizujących się map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unktu widzenia zachowania topografii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nterakcyjna eksploracja danych medycznych oraz wizualizac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ranic decyzji klasyfikatorów jako narzędzie wspomagające diagno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0720" y="4708080"/>
            <a:ext cx="587232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statnim zastosowaniem j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granic decyzji sieci neuronowej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enerowano przypadkowe punkty według rozkładu Gausowski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sąsiedztwie interesującego nas punktu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lasyfikowano i dorzutowano do obrazu najbliższych sąsiadów z baz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skorelować pozycję oraz ostrość granicy decyz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 prawdopodobieństwami podanymi przez klasyfikator Inc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rzutowane punkty są w obszarze większego zagęszcze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am gdzie klasyfikator podał duże prawdopodobieństw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dobrze odsepar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iedy prawdopodobieństwa są mniejs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lasy są przemiesz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1560" y="4708080"/>
            <a:ext cx="55706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moich badań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aktyczne porównanie algorytmów SOM i MDS pozwala wnioskować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ż MDS jest lepszym narzędziem do odwzorowywania struktur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ęc lepiej się nadaje do ich interakcyjnej eksplor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kalowanie wielowymiarowe zostało ulepszone i do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o interakcyjnej eksploracji wielowymiarowych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myślnie zastosowano metodę MDS do wizualizacji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anych medycznych oraz do wizualizacji granic decyzji klasyfikatora.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perspektywie można zapropon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adania nad minimalizacją stresu metodą gradientową z MultiStart’e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o jest uzasadnione w przypadku małych zbiorów da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la większych zbiorów, należy poszukiwać tańszych metod global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ogram iMDS przedstawiający 2-wymiarową konfigur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est przygotowaniem do wizualizacji w 3 wymiar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ożna również myśleć o interaktywnej wizualizac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uwzględniającej informację klasow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i o wizualizacji lokalnych poziomów zniekształceń relacji sąsiedztw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p. za pomocą Minimalnego Drzewa Rozpinające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uję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łówne tezy mojej rozprawy są następują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cja polepszonego algorytmu M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zwala na włączenie go w narzędzie interakcyjnej eksploracji da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z wizualizacji granic decyzji wybranego klasyfikat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ody ekstrakcji cech mogą z sukcesem być za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jest lepiej przystosowa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 odwzorowywania topografii danych niż mapy samoorganizujące si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ealizacja przedstawionych celów pra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biegała według następującego plan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unkt pierwszy: Cele wizualizacji danych wielowymiarow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zegląd metod pozwalających na wizualizacj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oorganizujące się mapy Kohonena (S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skalowania wielowymiarowego (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stosowania zoptymalizowanej metody M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onkluzje i perspekty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01200" y="4708080"/>
            <a:ext cx="519444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wstępie rozprawy omówiłem cele wizualizacji danych wielowymiar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zięki wizualizacji, możliwe jest poznanie dan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przez określenie ich globalnej struktur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krywanie obecności klasterów i danych odstając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izualizacja dotyczy danych numeryczn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(wystarczy możliwość określenia podobieństw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ama wizualizacja polega na przedstawieniu wykresów punkt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których istotne są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dalszej części pracy przedstawi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etody wizualizacji danych wielowymiarowy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zielone na liniowe oraz nieliniow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Celem tego przeglądu było umożliwienie wyboru met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jbardziej odpowiedniej do wizualizacj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rezentowanych w pracy da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Analiza Czynników Głównych jest metodą statystyczną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tóra istnieje również w postaci sieci neuronowej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artej na regule Heb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yniki zastosowania każdej z metod różnią się rodzaj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achowanej inform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kalowanie wielowymiarowe pozwala zachować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czytelnić odległości lub dane odmiennośc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wie kolejne metody zaprezentowane w tabe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ą wersjami MDS w postaci sieci neuronowe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y samoorganizujące się są skonstruowane w taki sposób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y zachować relacje sąsiedztw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e względu na zachowywane informacje do dalszych badań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ytypowano właśnie metody MDS i S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dano również metodę liniową Analizę Składników głów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ieważ została ona wybrana jako inicjalizacja dla metod nielin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ka rozkładu na wartości osobliwe okazała się lep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została wykorzystana w dalszej części p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662040" y="758880"/>
            <a:ext cx="5375160" cy="37209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2880" y="4708080"/>
            <a:ext cx="4892760" cy="4403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zutowanie liniowe nie pozwala na optymalną wizualizacj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zbiorów o nieliniowej struktur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przykład sympleks w 5-ciu wymiarach zobrazowany tą metod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 3 wierzchołki zgrupowa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tomiast przy zastosowaniu metody nieliniowej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szystkie sześć wierzchołków jest odseparow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F9859-0759-4F29-BAF6-5B7B87563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BCE7-8BF7-4A6A-BDA6-3F5F8FAE8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1737-252A-4EE2-B466-CAF889A0A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41479-FE8B-4EBF-8D4E-9FE4A6333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709B2-4499-4D92-AEA2-EBEF97D7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C8EC3-BED4-442B-9F21-7407FF0F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29C88-75E9-43D7-BCA0-8E42B9FC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0E30D-3787-4398-A311-C89B7560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42B19-04F4-4D18-8C39-8B442608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1AAC1-C8F6-4F49-933B-23B40EE7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03E0F-898C-4312-9C07-C49F1B46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1CFE-B7EA-47B6-906C-8434EA52D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BDFA6-7DCA-44B3-B0B9-DC2BE599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09A92-FDFC-4C40-AB76-666FD999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3E2B2-DC3D-4D67-BAC9-7F7A30A7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F6F77-EE57-424F-A870-8EC868E5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1108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09240" y="144792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1292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1108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609240" y="3995280"/>
            <a:ext cx="2950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EFF51-B22F-4A65-BAF3-53E3E903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13DFC-0998-4C02-BF2D-2B62C6148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3957-33FC-48A9-AFBD-FC04EF001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42B4-0D01-458B-97DE-79CCB63B5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28240"/>
            <a:ext cx="9080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20A5-F1B1-4E5B-A290-3468ECDB5A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56C9-0F87-47BF-B565-72BC0628B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08040" y="399528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45754-83EB-41FE-ACEC-28B1A4F80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040" y="1447920"/>
            <a:ext cx="44712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2920" y="3995280"/>
            <a:ext cx="9162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9656-DE96-4B03-AA84-44B20EC20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4880" y="1219320"/>
            <a:ext cx="1933560" cy="2324160"/>
            <a:chOff x="164880" y="1219320"/>
            <a:chExt cx="1933560" cy="2324160"/>
          </a:xfrm>
        </p:grpSpPr>
        <p:sp>
          <p:nvSpPr>
            <p:cNvPr id="3" name=""/>
            <p:cNvSpPr/>
            <p:nvPr/>
          </p:nvSpPr>
          <p:spPr>
            <a:xfrm flipH="1">
              <a:off x="164880" y="1316880"/>
              <a:ext cx="19335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5480" y="122256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71080" y="1219320"/>
              <a:ext cx="2088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1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500120" indent="-228600">
              <a:spcBef>
                <a:spcPts val="1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1919160" indent="-228600">
              <a:spcBef>
                <a:spcPts val="1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5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6" marL="1919160" indent="-228600">
              <a:spcBef>
                <a:spcPts val="1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990360" y="6400440"/>
            <a:ext cx="7924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915400" y="6400440"/>
            <a:ext cx="6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7E97-65BF-449A-A57E-F1DDC83F6ED1}" type="slidenum">
              <a:rPr b="1" lang="en-US" sz="16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32040" y="0"/>
            <a:ext cx="6274080" cy="1522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7564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0120" y="887400"/>
            <a:ext cx="0" cy="28465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680" y="3050640"/>
            <a:ext cx="552312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660240" y="1219320"/>
            <a:ext cx="6554880" cy="144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rot="16200000">
            <a:off x="752760" y="1056600"/>
            <a:ext cx="24732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71800" y="3809880"/>
            <a:ext cx="6548040" cy="2876400"/>
            <a:chOff x="2971800" y="3809880"/>
            <a:chExt cx="6548040" cy="2876400"/>
          </a:xfrm>
        </p:grpSpPr>
        <p:sp>
          <p:nvSpPr>
            <p:cNvPr id="53" name=""/>
            <p:cNvSpPr/>
            <p:nvPr/>
          </p:nvSpPr>
          <p:spPr>
            <a:xfrm>
              <a:off x="2971800" y="6175080"/>
              <a:ext cx="654804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20400" y="3809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9200880" y="6013440"/>
              <a:ext cx="24732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F489-1BC8-49AF-9838-04DD81D197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4136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2480" algn="ctr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7152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69056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6905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2800" y="1371240"/>
            <a:ext cx="8420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Algorytmy neuronowe i statystyczne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w wizualizacji danych wielowymiarowych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07560" y="3733920"/>
            <a:ext cx="8255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4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0458c"/>
                </a:solidFill>
                <a:latin typeface="Tahoma"/>
              </a:rPr>
              <a:t>Antoine Na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1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motor: prof. W. Du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tedra Metod Komputerowy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wersytet Mikołaja Kopernika w Toruni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06" name="UMK" descr=""/>
          <p:cNvPicPr/>
          <p:nvPr/>
        </p:nvPicPr>
        <p:blipFill>
          <a:blip r:embed="rId1"/>
          <a:stretch/>
        </p:blipFill>
        <p:spPr>
          <a:xfrm>
            <a:off x="1155600" y="3733920"/>
            <a:ext cx="14032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2680" y="3045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1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ć dwuwarstwowa, uczenie konkurencyjne (zwycięzca bierze większość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7800" y="1752480"/>
          <a:ext cx="404496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52480"/>
                    <a:ext cx="40449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602320" y="1752480"/>
          <a:ext cx="373860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1752480"/>
                    <a:ext cx="3738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kohopol" descr=""/>
          <p:cNvPicPr/>
          <p:nvPr/>
        </p:nvPicPr>
        <p:blipFill>
          <a:blip r:embed="rId5"/>
          <a:stretch/>
        </p:blipFill>
        <p:spPr>
          <a:xfrm>
            <a:off x="825480" y="2227320"/>
            <a:ext cx="7677000" cy="46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5E1B4-0BEC-426D-A2DB-C1AF8A2BB5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.2. Samoorganizująca się sieć Kohonen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lety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konuje jednocześnie redukcji wymiarowości oraz klasteryzacji danych wielowymiarowych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żliwość zastosowania do dużych baz danych lub danych w czasie ich napły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graniczenia modelu SOM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niekształcenie związane z niedopasowaniem kształtu mapy do ogólnego kształtu danych, efekt „brzegowy”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yskretyzacja przestrzeni wyjściowej (siatka neuron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kt lokalnego powiększ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asteryzacja i klasyfikacja nie optymalne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2114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nieczność wyboru wielu parametrów uczenia siec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DCBAB-5EC5-42D8-9DC0-5E710AD7E0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1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Ścisła definicja skalowania wielowymiaroweg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la zbior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obiektów, mamy pomiary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odmienności (ang. dissimilarity) dla wszystkich par obiektów (i,j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zukamy niskowymiarowej przestrzeni M, w której jeden pun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reprezentuje jeden obiekt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w taki sposób, by odległości {d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między punktami {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 były jak najlepiej dopasowane do odmienności {</a:t>
            </a:r>
            <a:r>
              <a:rPr b="0" lang="pl-PL" sz="2400" spc="-1" strike="noStrike">
                <a:solidFill>
                  <a:srgbClr val="40458c"/>
                </a:solidFill>
                <a:latin typeface="Symbol"/>
                <a:ea typeface="Symbol"/>
              </a:rPr>
              <a:t>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}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6240" indent="-288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Skalowanie metodą najmniejszych kwadratów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funkcji błędu (badness-of-fit), tzw. stresu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2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330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etody optymalizacji: lokalne (coordinate or gradient descent), globalne (majorizing function, wygładzanie stresu) lub inferencyjn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81080" y="4648320"/>
          <a:ext cx="5553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648320"/>
                    <a:ext cx="5553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BE1B-6964-40DA-86E3-43DB87453B8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2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Ulepszenia wniesione do algorytmu MDS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ybór początkowej konfiguracji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CA + MultiStar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yspieszenie oraz ulepszenie procesu zbiegania się minimalizacji stres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optymalizacja skoku wzdłuż gradientu w metodz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ajwiększego spadku uwzględniając drugie pochod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16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Generalizacj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dorzutowania nowych danych przez M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7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o istniejącego rzutowan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B3FC-BEFF-47E9-B8AD-F1CC9F0D81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3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tymalny skok dla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0800" y="1941480"/>
          <a:ext cx="404172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0" y="1941480"/>
                    <a:ext cx="40417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07880" y="2895480"/>
          <a:ext cx="949824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2895480"/>
                    <a:ext cx="949824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98440" y="3706920"/>
          <a:ext cx="6853320" cy="8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98440" y="3706920"/>
                    <a:ext cx="6853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800440" y="4648320"/>
          <a:ext cx="3801960" cy="13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4648320"/>
                    <a:ext cx="3801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022760" y="2514600"/>
            <a:ext cx="74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Aproksymacja funkcji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S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·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formą kwadratową (szereg Taylora)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68155-92FF-48BF-BCE7-E4947DAE185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4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62040" indent="-220680"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ównanie procesu minimalizacji z innymi metodami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3" name="conv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93279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FACF7-D5EC-49F5-B782-E0541896B16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5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Zalety metody największego spadku z optymalnym skokiem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uwzględnianie krzywizny funkcji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S()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 punkcie 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pl-PL" sz="1800" spc="-1" strike="noStrike" baseline="30000">
                <a:solidFill>
                  <a:srgbClr val="40458c"/>
                </a:solidFill>
                <a:latin typeface="Tahoma"/>
              </a:rPr>
              <a:t>(k)</a:t>
            </a:r>
            <a:r>
              <a:rPr b="0" i="1" lang="pl-PL" sz="18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przy jednocześnie mniejszej kosztowności niż prawdziwa metoda drugiego rzędu          (n.p. metoda Newton’a)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jest w sumie szybsza niż metoda gradientów sprzężonych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proces minimalizacji przebiega w sposób bardziej kontrolowany niż metodą rzutowania Sammon’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ady metody największego spadku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liniowa zbieżność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905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Dołączenie generalizacji do MDSu: „względny” M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b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punktów wcześniej rzutowanych     (b – baza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20680" indent="-228600">
              <a:lnSpc>
                <a:spcPct val="7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n 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– liczba nowych punktów do dorzutowania  (n – nowe dane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5486400"/>
          <a:ext cx="9180360" cy="10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86400"/>
                    <a:ext cx="91803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0C33-262E-4EA1-BAC7-BF688051605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4.6. Skalowanie wielowymiarow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Zalet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ultiStart z minimalizacją gradientową jest zadowalającym rozwiązaniem dla małych zbiorów (do 100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zględna szybkość rzutowania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kontroli obszarów danych, które należy lepiej odwzorowywać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ożliwość wizualizacji dużych zbiorów danych w celu ich eksploracji (n.p. bazy tekstów) lub danych napływających w czasie (n.p. monitoring procesów przemysłowych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0880" indent="-25056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ady zaproponowanego modelu 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złożoność obliczeniowa rzędu 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i="1" lang="pl-PL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i="1" lang="pl-PL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- liczba punktów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-220320">
              <a:lnSpc>
                <a:spcPct val="9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liczne lokalne minima (czułość na warunki początkowe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4396-6FBE-471F-AC57-0A675578ADD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1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4280" y="1519200"/>
            <a:ext cx="88200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641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Program </a:t>
            </a:r>
            <a:r>
              <a:rPr b="1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iMDS</a:t>
            </a:r>
            <a:r>
              <a:rPr b="0" lang="pl-PL" sz="1800" spc="-1" strike="noStrike" u="sng">
                <a:solidFill>
                  <a:srgbClr val="40458c"/>
                </a:solidFill>
                <a:uFillTx/>
                <a:latin typeface="Tahoma"/>
              </a:rPr>
              <a:t> zaimplementowany w śr Windows został zastosowany do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i danych psychometrycznych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(test MMPI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550 pytań </a:t>
            </a:r>
            <a:r>
              <a:rPr b="0" lang="pl-PL" sz="16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13 skal (20-120), 20 klas nozologicznych (kobiety/mężczyźni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wizualizacja przez PCA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wizualizacja przez MD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65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1800" spc="-1" strike="noStrike" baseline="-10000">
                <a:solidFill>
                  <a:srgbClr val="40458c"/>
                </a:solidFill>
                <a:latin typeface="Tahoma"/>
              </a:rPr>
              <a:t>1</a:t>
            </a:r>
            <a:r>
              <a:rPr b="0" lang="pl-PL" sz="1800" spc="-1" strike="noStrike">
                <a:solidFill>
                  <a:srgbClr val="40458c"/>
                </a:solidFill>
                <a:latin typeface="Tahoma"/>
              </a:rPr>
              <a:t> = 0.021 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(PCA init., 142 iteracji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2" name="allwoPCA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4292640" cy="3170160"/>
          </a:xfrm>
          <a:prstGeom prst="rect">
            <a:avLst/>
          </a:prstGeom>
          <a:ln w="0">
            <a:noFill/>
          </a:ln>
        </p:spPr>
      </p:pic>
      <p:pic>
        <p:nvPicPr>
          <p:cNvPr id="163" name="allwoNLM" descr=""/>
          <p:cNvPicPr/>
          <p:nvPr/>
        </p:nvPicPr>
        <p:blipFill>
          <a:blip r:embed="rId2"/>
          <a:stretch/>
        </p:blipFill>
        <p:spPr>
          <a:xfrm>
            <a:off x="5118120" y="2590920"/>
            <a:ext cx="4292640" cy="317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D7DB-15EB-4744-97EA-6058F568CBF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2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Zoomowanie w przestrzeni wybranej interakcyjni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.p. zoomowanie w sąsiedztwie punktu nr 426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6" name="p426" descr=""/>
          <p:cNvPicPr/>
          <p:nvPr/>
        </p:nvPicPr>
        <p:blipFill>
          <a:blip r:embed="rId1"/>
          <a:stretch/>
        </p:blipFill>
        <p:spPr>
          <a:xfrm>
            <a:off x="1238400" y="2077920"/>
            <a:ext cx="7016760" cy="478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094A-7083-45A6-A017-308D7198BD1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ele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dstawienie przeglądu istniejących metod wizualizacyjnych dla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ównanie dwóch wybranych metod: skalowania wielowymiarowego (MDS) i samoorganizujących się map Kohonena (SOM) z punktu widzenia zachowania topografii dan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akcyjna eksploracja danych medycznych oraz wizualizacja granic decyzji klasyfikatorów jako narzędzie wspomagające diagnozy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6E1FD-4837-4C7C-BDED-AA9006E7263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5.3. Zastosowania zoptymalizowanej metody M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230760" indent="-230760">
              <a:lnSpc>
                <a:spcPct val="8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Wizualizacja granic decyzji klasyfikato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generowanie nowych punktów </a:t>
            </a:r>
            <a:r>
              <a:rPr b="0" i="1" lang="pl-PL" sz="1600" spc="-1" strike="noStrike">
                <a:solidFill>
                  <a:srgbClr val="40458c"/>
                </a:solidFill>
                <a:latin typeface="Tahoma"/>
              </a:rPr>
              <a:t>przypadkowych w sąsiedztwie</a:t>
            </a: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 granicy decyzji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n.p. bazy danych psychometrycznych, przypadki nr 554 i 42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-2026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r>
              <a:rPr b="0" lang="pl-PL" sz="1600" spc="-1" strike="noStrike">
                <a:solidFill>
                  <a:srgbClr val="40458c"/>
                </a:solidFill>
                <a:latin typeface="Tahoma"/>
              </a:rPr>
              <a:t>wizualizacja granic decyzji dla sieci neuronowej “IncNet”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60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  <a:tab algn="l" pos="1083456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organic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826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ssigned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428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23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schizophrenia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062)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Alternative class: </a:t>
            </a:r>
            <a:r>
              <a:rPr b="1" lang="pl-PL" sz="1400" spc="-1" strike="noStrike">
                <a:solidFill>
                  <a:srgbClr val="40458c"/>
                </a:solidFill>
                <a:latin typeface="Tahoma"/>
              </a:rPr>
              <a:t>neurosis</a:t>
            </a:r>
            <a:r>
              <a:rPr b="0" lang="pl-PL" sz="1400" spc="-1" strike="noStrike">
                <a:solidFill>
                  <a:srgbClr val="40458c"/>
                </a:solidFill>
                <a:latin typeface="Tahoma"/>
              </a:rPr>
              <a:t> (p=0.309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9" name="p554gauss" descr=""/>
          <p:cNvPicPr/>
          <p:nvPr/>
        </p:nvPicPr>
        <p:blipFill>
          <a:blip r:embed="rId1"/>
          <a:stretch/>
        </p:blipFill>
        <p:spPr>
          <a:xfrm>
            <a:off x="660240" y="2590920"/>
            <a:ext cx="3624480" cy="3581280"/>
          </a:xfrm>
          <a:prstGeom prst="rect">
            <a:avLst/>
          </a:prstGeom>
          <a:ln w="0">
            <a:noFill/>
          </a:ln>
        </p:spPr>
      </p:pic>
      <p:pic>
        <p:nvPicPr>
          <p:cNvPr id="170" name="p426gauss" descr=""/>
          <p:cNvPicPr/>
          <p:nvPr/>
        </p:nvPicPr>
        <p:blipFill>
          <a:blip r:embed="rId2"/>
          <a:stretch/>
        </p:blipFill>
        <p:spPr>
          <a:xfrm>
            <a:off x="5365800" y="2590920"/>
            <a:ext cx="357804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1BA05-A9E7-47AE-99FA-6103083C0AE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6. Konkluzje i perspektyw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aktyczne porównanie algorytmów SOM i MDS pozwala wnioskować,    iż MDS jest lepszym narzędziem do odwzorowywania struktur danych więc lepiej się nadaje do ich interakcyjnej eksploracj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Skalowanie wielowymiarowe zostało ulepszone i dostosowane do interakcyjnej eksploracji wielowymiarowych da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11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omyślnie zastosowano metodę MDS do wizualizacji wielowymiarowych danych medycznych oraz do wizualizacji granic decyzji klasyfikatora.                  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Minimalizacja stresu metodą gradientową z MultiStart’em jest uzasadniona w przypadku małych zbiorów danych. Dla większych zbiorów, należy poszukiwać tańszych metod globalny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ogram iMDS przedstawiający 2-wymiarową konfigurację jest przygotowaniem do wizualizacji w 3 wymiarac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Interaktywna wizualizacja uwzględniająca informację klasową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-233280">
              <a:lnSpc>
                <a:spcPct val="90000"/>
              </a:lnSpc>
              <a:spcBef>
                <a:spcPts val="10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Wizualizacja lokalnych poziomów zniekształceń relacji sąsiedztw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33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2296-3A94-4C2C-8AC6-B9BF54CBD6AF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ezy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lementacja polepszonego algorytmu MDS pozwala na włączenie go w narzędzie interakcyjnej eksploracji danych oraz wizualizacji granic decyzji wybranego klasyfikato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ekstrakcji cech mogą z sukcesem być zastosowane do wizualizacji danych wielowymiarowych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kalowanie wielowymiarowe jest lepiej przystosowane do odwzorowywania topografii danych niż mapy samoorganizujące si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3D8B-8D5C-425C-8491-7255812414A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lan pracy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le wizualizacji danych wielowymiarowy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zegląd metod pozwalających na wizualizacj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moorganizujące się mapy Kohonena (SOM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tody skalowania wielowymiarowego (MD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astosowania zoptymalizowanej metody M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7780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nkluzje i perspektyw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8917-C86B-4805-BC61-387D8915DC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1. Cele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oznanie danych poprzez określenie ich globalnej struktury, wykrywanie obecności klasterów i danych odstający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ie dane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Dane numeryczne (wystarczy możliwość określenia podobieństwa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dane medyczne: różnorodne skale, nieliniowa struktura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130000"/>
              </a:lnSpc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Jaka wizualizacja 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Przedstawiająca wykres punktow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(ważna informacja: relacje sąsiedztw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Ekstrakcja cech umożliwia zastosowanie niektórych kosztownych metod klasyfikacyjnych dla danych opisanych w dużej liczbie wymiarów</a:t>
            </a: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B7577-7765-4727-B816-D8B83FA30C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1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1447560"/>
            <a:ext cx="85028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0">
              <a:spcBef>
                <a:spcPts val="1400"/>
              </a:spcBef>
              <a:buNone/>
              <a:tabLst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7920" y="1295280"/>
          <a:ext cx="8502480" cy="328320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718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incipal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danych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96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Projection pursuit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Wariancja i odległ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8600">
                <a:tc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rand tour method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6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ynamiczny obraz (przekroj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7632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78AC-A154-4DFE-97A5-FFFC4A63454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2. Przegląd istniejących metod wizualizacji danych wielowymiarow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7920" y="1371600"/>
          <a:ext cx="8502480" cy="4873680"/>
        </p:xfrm>
        <a:graphic>
          <a:graphicData uri="http://schemas.openxmlformats.org/drawingml/2006/table">
            <a:tbl>
              <a:tblPr/>
              <a:tblGrid>
                <a:gridCol w="3459240"/>
                <a:gridCol w="1235880"/>
                <a:gridCol w="216000"/>
                <a:gridCol w="1038600"/>
                <a:gridCol w="329400"/>
                <a:gridCol w="2223360"/>
              </a:tblGrid>
              <a:tr h="510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40458c"/>
                        </a:buClr>
                        <a:buSzPct val="110000"/>
                        <a:buFont typeface="Symbol" charset="2"/>
                        <a:buChar char="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Metody nieliniowe: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etoda statystyczn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ieć neuronowa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Zachowana informacj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Multidimensional scaling (MDS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lub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dane odmienności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euroScal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oraz dodatkowa wiedz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Curvilinear Components Analysis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które odległości („rozwijanie”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Autoassociative feedforward neural network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Nieliniowe korelacje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Self-organizing maps (SOM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Relacje sąsiedztwa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Generative Topographic Mapping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0458c"/>
                          </a:solidFill>
                          <a:latin typeface="Monotype Sorts"/>
                          <a:ea typeface="Monotype Sorts"/>
                        </a:rPr>
                        <a:t>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0458c"/>
                          </a:solidFill>
                          <a:latin typeface="Times New Roman"/>
                        </a:rPr>
                        <a:t>Odległości (statystycznie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E2D13-B27B-437D-8344-BD3E7FA854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3. Analiza Składników Głównych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Poszukiwanie takiej liniowej transformacji danych, aby po transformacji dane miały największą wariancję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Wizualizacja polega na wykreśleniu dwóch pierwszych kierunków głównych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1400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40458c"/>
                </a:solidFill>
                <a:latin typeface="Tahoma"/>
              </a:rPr>
              <a:t>Dwie klasy metod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spektralny (SpD) macierzy korelacji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 =  C . D . C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Rozkład na wartości osobliwe (SVD) macierzy danych: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pl-PL" sz="2400" spc="-1" strike="noStrike" baseline="-25000">
                <a:solidFill>
                  <a:srgbClr val="40458c"/>
                </a:solidFill>
                <a:latin typeface="Tahoma"/>
              </a:rPr>
              <a:t>B</a:t>
            </a: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  =  N . D . M</a:t>
            </a:r>
            <a:r>
              <a:rPr b="0" lang="pl-PL" sz="2400" spc="-1" strike="noStrike" baseline="30000">
                <a:solidFill>
                  <a:srgbClr val="40458c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2040" indent="-220680">
              <a:lnSpc>
                <a:spcPct val="90000"/>
              </a:lnSpc>
              <a:spcBef>
                <a:spcPts val="9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0458c"/>
                </a:solidFill>
                <a:latin typeface="Tahoma"/>
              </a:rPr>
              <a:t>Przewaga numeryczna ostatniej metody (SVD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FE4D7-AFD1-4F4E-B1F8-4F83BD95D1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28240"/>
            <a:ext cx="908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2.4. Ograniczenia rzutowania linioweg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2920" y="1447920"/>
            <a:ext cx="9162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nie nadaje się do wizualizacji zbiorów o nieliniowej strukturze (przykład poniżej: 5-wymiarowy sympleks)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czułość na obecność danych odstających. („outliers”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liniowe (PCA)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Rzutowanie </a:t>
            </a:r>
            <a:r>
              <a:rPr b="1" lang="pl-PL" sz="2000" spc="-1" strike="noStrike">
                <a:solidFill>
                  <a:srgbClr val="40458c"/>
                </a:solidFill>
                <a:latin typeface="Tahoma"/>
              </a:rPr>
              <a:t>nieliniowe (MD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3 grupy (2,3 i 5) mieszane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40458c"/>
                </a:solidFill>
                <a:latin typeface="Tahoma"/>
              </a:rPr>
              <a:t>6 grup odseparowa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24" name="simpPCAMDS" descr=""/>
          <p:cNvPicPr/>
          <p:nvPr/>
        </p:nvPicPr>
        <p:blipFill>
          <a:blip r:embed="rId1"/>
          <a:stretch/>
        </p:blipFill>
        <p:spPr>
          <a:xfrm>
            <a:off x="577800" y="2438280"/>
            <a:ext cx="8874000" cy="36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9FB6-73B8-4695-BD97-AB78F0EA497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08:44:46Z</dcterms:created>
  <dc:creator>Elzbieta i Antoine Naud</dc:creator>
  <dc:description/>
  <dc:language>en-US</dc:language>
  <cp:lastModifiedBy>Antoine Naud</cp:lastModifiedBy>
  <cp:lastPrinted>2001-09-13T10:28:59Z</cp:lastPrinted>
  <dcterms:modified xsi:type="dcterms:W3CDTF">2001-09-13T10:41:40Z</dcterms:modified>
  <cp:revision>260</cp:revision>
  <dc:subject/>
  <dc:title>Neural and statistical methods for the visualization of multidimensional data</dc:title>
</cp:coreProperties>
</file>